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9075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549-B306-4467-833A-FB69785E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7D7-9163-40FD-B9D1-88E94391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BB1-C8BF-49F2-A06A-913F800C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3AF-767B-4942-8BC0-78222E99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CF2-A93D-4018-8EF7-D7A94C54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C22-C7D4-4D74-934F-409CE2D5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458-C49D-488E-B322-D0847BAA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6CD-B581-4A5C-8563-D46D1418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089-73F4-4095-A390-39A954C1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D55-E991-46A7-A0FA-C947DB88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281-5395-46BF-8501-E0D20F0E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189-903E-445E-841F-913437C4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B6F4-CB60-4B06-8CF8-98EC3692C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60880" y="6226200"/>
            <a:ext cx="7923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60880" y="7072200"/>
            <a:ext cx="792360" cy="8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60880" y="7918560"/>
            <a:ext cx="7923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60880" y="8764560"/>
            <a:ext cx="7923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83200" y="6161040"/>
            <a:ext cx="64764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7320" y="5059440"/>
            <a:ext cx="374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ve. Cessna C182, DHC-2 Beaver and Piper Sen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print at 9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16840" y="6534000"/>
            <a:ext cx="46872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03600" y="63500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573360" y="5945040"/>
            <a:ext cx="2632320" cy="3961080"/>
            <a:chOff x="3573360" y="5945040"/>
            <a:chExt cx="2632320" cy="3961080"/>
          </a:xfrm>
        </p:grpSpPr>
        <p:sp>
          <p:nvSpPr>
            <p:cNvPr id="50" name=""/>
            <p:cNvSpPr/>
            <p:nvPr/>
          </p:nvSpPr>
          <p:spPr>
            <a:xfrm>
              <a:off x="5013360" y="6176880"/>
              <a:ext cx="863640" cy="352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60880" y="622620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60880" y="7072200"/>
              <a:ext cx="792360" cy="84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60880" y="7918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60880" y="8764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84640" y="6161040"/>
              <a:ext cx="648000" cy="347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76520" y="653724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60760" y="6570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573360" y="5945040"/>
              <a:ext cx="2376360" cy="3961080"/>
              <a:chOff x="3573360" y="5945040"/>
              <a:chExt cx="2376360" cy="3961080"/>
            </a:xfrm>
          </p:grpSpPr>
          <p:sp>
            <p:nvSpPr>
              <p:cNvPr id="59" name=""/>
              <p:cNvSpPr/>
              <p:nvPr/>
            </p:nvSpPr>
            <p:spPr>
              <a:xfrm>
                <a:off x="3931920" y="5945040"/>
                <a:ext cx="100800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005000" y="5961240"/>
                <a:ext cx="1944720" cy="57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573360" y="9185400"/>
                <a:ext cx="2376360" cy="72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903920" y="6465960"/>
              <a:ext cx="35856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46760" y="6321600"/>
              <a:ext cx="35892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637000" y="5945040"/>
            <a:ext cx="2631600" cy="3961080"/>
            <a:chOff x="2637000" y="5945040"/>
            <a:chExt cx="2631600" cy="3961080"/>
          </a:xfrm>
        </p:grpSpPr>
        <p:sp>
          <p:nvSpPr>
            <p:cNvPr id="65" name=""/>
            <p:cNvSpPr/>
            <p:nvPr/>
          </p:nvSpPr>
          <p:spPr>
            <a:xfrm>
              <a:off x="4076640" y="6176880"/>
              <a:ext cx="863280" cy="352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24160" y="622620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24160" y="7072200"/>
              <a:ext cx="792000" cy="84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4160" y="791856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4160" y="876456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47920" y="6161040"/>
              <a:ext cx="647640" cy="347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39440" y="653724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24040" y="6570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2637000" y="5945040"/>
              <a:ext cx="2376360" cy="3961080"/>
              <a:chOff x="2637000" y="5945040"/>
              <a:chExt cx="2376360" cy="3961080"/>
            </a:xfrm>
          </p:grpSpPr>
          <p:sp>
            <p:nvSpPr>
              <p:cNvPr id="74" name=""/>
              <p:cNvSpPr/>
              <p:nvPr/>
            </p:nvSpPr>
            <p:spPr>
              <a:xfrm>
                <a:off x="2995560" y="5945040"/>
                <a:ext cx="100800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68640" y="5961240"/>
                <a:ext cx="1944720" cy="57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37000" y="9185400"/>
                <a:ext cx="2376360" cy="72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967200" y="6465960"/>
              <a:ext cx="35820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10040" y="6321600"/>
              <a:ext cx="35856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628640" y="5945040"/>
            <a:ext cx="2632320" cy="3961080"/>
            <a:chOff x="1628640" y="5945040"/>
            <a:chExt cx="2632320" cy="3961080"/>
          </a:xfrm>
        </p:grpSpPr>
        <p:sp>
          <p:nvSpPr>
            <p:cNvPr id="80" name=""/>
            <p:cNvSpPr/>
            <p:nvPr/>
          </p:nvSpPr>
          <p:spPr>
            <a:xfrm>
              <a:off x="3068640" y="6176880"/>
              <a:ext cx="863640" cy="352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16160" y="622620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16160" y="7072200"/>
              <a:ext cx="792360" cy="84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16160" y="7918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16160" y="8764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39920" y="6161040"/>
              <a:ext cx="648000" cy="347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31800" y="653724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16040" y="6570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1628640" y="5945040"/>
              <a:ext cx="2376360" cy="3961080"/>
              <a:chOff x="1628640" y="5945040"/>
              <a:chExt cx="2376360" cy="3961080"/>
            </a:xfrm>
          </p:grpSpPr>
          <p:sp>
            <p:nvSpPr>
              <p:cNvPr id="89" name=""/>
              <p:cNvSpPr/>
              <p:nvPr/>
            </p:nvSpPr>
            <p:spPr>
              <a:xfrm>
                <a:off x="1987200" y="5945040"/>
                <a:ext cx="100800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60280" y="5961240"/>
                <a:ext cx="1944720" cy="57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628640" y="9185400"/>
                <a:ext cx="2376360" cy="72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959200" y="6465960"/>
              <a:ext cx="35856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02040" y="6321600"/>
              <a:ext cx="35892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0640" y="5945040"/>
            <a:ext cx="2632320" cy="3961080"/>
            <a:chOff x="620640" y="5945040"/>
            <a:chExt cx="2632320" cy="3961080"/>
          </a:xfrm>
        </p:grpSpPr>
        <p:sp>
          <p:nvSpPr>
            <p:cNvPr id="95" name=""/>
            <p:cNvSpPr/>
            <p:nvPr/>
          </p:nvSpPr>
          <p:spPr>
            <a:xfrm>
              <a:off x="2060640" y="6176880"/>
              <a:ext cx="863640" cy="352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08160" y="622620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8160" y="7072200"/>
              <a:ext cx="792360" cy="84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08160" y="7918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8160" y="8764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1920" y="6161040"/>
              <a:ext cx="648000" cy="347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23800" y="653724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08040" y="6570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620640" y="5945040"/>
              <a:ext cx="2376360" cy="3961080"/>
              <a:chOff x="620640" y="5945040"/>
              <a:chExt cx="2376360" cy="3961080"/>
            </a:xfrm>
          </p:grpSpPr>
          <p:sp>
            <p:nvSpPr>
              <p:cNvPr id="104" name=""/>
              <p:cNvSpPr/>
              <p:nvPr/>
            </p:nvSpPr>
            <p:spPr>
              <a:xfrm>
                <a:off x="979200" y="5945040"/>
                <a:ext cx="100800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52280" y="5961240"/>
                <a:ext cx="1944720" cy="57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0640" y="9185400"/>
                <a:ext cx="2376360" cy="72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951200" y="6465960"/>
              <a:ext cx="35856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94040" y="6321600"/>
              <a:ext cx="35892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-387360" y="5961240"/>
            <a:ext cx="2631600" cy="3960360"/>
            <a:chOff x="-387360" y="5961240"/>
            <a:chExt cx="2631600" cy="3960360"/>
          </a:xfrm>
        </p:grpSpPr>
        <p:sp>
          <p:nvSpPr>
            <p:cNvPr id="110" name=""/>
            <p:cNvSpPr/>
            <p:nvPr/>
          </p:nvSpPr>
          <p:spPr>
            <a:xfrm>
              <a:off x="1052280" y="6192720"/>
              <a:ext cx="86328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99800" y="624204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99800" y="708804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99800" y="793440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99800" y="878040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23560" y="6176880"/>
              <a:ext cx="64764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5080" y="655308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99680" y="658656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-387360" y="5961240"/>
              <a:ext cx="2376360" cy="3960360"/>
              <a:chOff x="-387360" y="5961240"/>
              <a:chExt cx="2376360" cy="3960360"/>
            </a:xfrm>
          </p:grpSpPr>
          <p:sp>
            <p:nvSpPr>
              <p:cNvPr id="119" name=""/>
              <p:cNvSpPr/>
              <p:nvPr/>
            </p:nvSpPr>
            <p:spPr>
              <a:xfrm>
                <a:off x="-28800" y="596124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280" y="597708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-387360" y="920124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942840" y="6481800"/>
              <a:ext cx="35820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85680" y="633744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573360" y="992160"/>
            <a:ext cx="2632320" cy="3960360"/>
            <a:chOff x="3573360" y="992160"/>
            <a:chExt cx="2632320" cy="3960360"/>
          </a:xfrm>
        </p:grpSpPr>
        <p:sp>
          <p:nvSpPr>
            <p:cNvPr id="125" name=""/>
            <p:cNvSpPr/>
            <p:nvPr/>
          </p:nvSpPr>
          <p:spPr>
            <a:xfrm>
              <a:off x="5013360" y="1223640"/>
              <a:ext cx="86364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27296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0880" y="21189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0880" y="2965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60880" y="3811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84640" y="1207800"/>
              <a:ext cx="64800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6520" y="158400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60760" y="16174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573360" y="992160"/>
              <a:ext cx="2376360" cy="3960360"/>
              <a:chOff x="3573360" y="992160"/>
              <a:chExt cx="2376360" cy="3960360"/>
            </a:xfrm>
          </p:grpSpPr>
          <p:sp>
            <p:nvSpPr>
              <p:cNvPr id="134" name=""/>
              <p:cNvSpPr/>
              <p:nvPr/>
            </p:nvSpPr>
            <p:spPr>
              <a:xfrm>
                <a:off x="3931920" y="99216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05000" y="100800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73360" y="423216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903920" y="151272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46760" y="1368360"/>
              <a:ext cx="35892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37000" y="992160"/>
            <a:ext cx="2631600" cy="3960360"/>
            <a:chOff x="2637000" y="992160"/>
            <a:chExt cx="2631600" cy="3960360"/>
          </a:xfrm>
        </p:grpSpPr>
        <p:sp>
          <p:nvSpPr>
            <p:cNvPr id="140" name=""/>
            <p:cNvSpPr/>
            <p:nvPr/>
          </p:nvSpPr>
          <p:spPr>
            <a:xfrm>
              <a:off x="4076640" y="1223640"/>
              <a:ext cx="86328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24160" y="127296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24160" y="211896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24160" y="296532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4160" y="381132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47920" y="1207800"/>
              <a:ext cx="64764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39440" y="158400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24040" y="16174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637000" y="992160"/>
              <a:ext cx="2376360" cy="3960360"/>
              <a:chOff x="2637000" y="992160"/>
              <a:chExt cx="2376360" cy="3960360"/>
            </a:xfrm>
          </p:grpSpPr>
          <p:sp>
            <p:nvSpPr>
              <p:cNvPr id="149" name=""/>
              <p:cNvSpPr/>
              <p:nvPr/>
            </p:nvSpPr>
            <p:spPr>
              <a:xfrm>
                <a:off x="2995560" y="99216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68640" y="100800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37000" y="423216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967200" y="1512720"/>
              <a:ext cx="35820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10040" y="136836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628640" y="992160"/>
            <a:ext cx="2632320" cy="3960360"/>
            <a:chOff x="1628640" y="992160"/>
            <a:chExt cx="2632320" cy="3960360"/>
          </a:xfrm>
        </p:grpSpPr>
        <p:sp>
          <p:nvSpPr>
            <p:cNvPr id="155" name=""/>
            <p:cNvSpPr/>
            <p:nvPr/>
          </p:nvSpPr>
          <p:spPr>
            <a:xfrm>
              <a:off x="3068640" y="1223640"/>
              <a:ext cx="86364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16160" y="127296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16160" y="21189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16160" y="2965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16160" y="3811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39920" y="1207800"/>
              <a:ext cx="64800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31800" y="158400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6040" y="16174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628640" y="992160"/>
              <a:ext cx="2376360" cy="3960360"/>
              <a:chOff x="1628640" y="992160"/>
              <a:chExt cx="2376360" cy="3960360"/>
            </a:xfrm>
          </p:grpSpPr>
          <p:sp>
            <p:nvSpPr>
              <p:cNvPr id="164" name=""/>
              <p:cNvSpPr/>
              <p:nvPr/>
            </p:nvSpPr>
            <p:spPr>
              <a:xfrm>
                <a:off x="1987200" y="99216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60280" y="100800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28640" y="423216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959200" y="151272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02040" y="1368360"/>
              <a:ext cx="35892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0640" y="992160"/>
            <a:ext cx="2632320" cy="3960360"/>
            <a:chOff x="620640" y="992160"/>
            <a:chExt cx="2632320" cy="3960360"/>
          </a:xfrm>
        </p:grpSpPr>
        <p:sp>
          <p:nvSpPr>
            <p:cNvPr id="170" name=""/>
            <p:cNvSpPr/>
            <p:nvPr/>
          </p:nvSpPr>
          <p:spPr>
            <a:xfrm>
              <a:off x="2060640" y="1223640"/>
              <a:ext cx="86364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08160" y="127296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08160" y="21189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08160" y="2965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08160" y="3811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1920" y="1207800"/>
              <a:ext cx="64800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800" y="158400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08040" y="16174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20640" y="992160"/>
              <a:ext cx="2376360" cy="3960360"/>
              <a:chOff x="620640" y="992160"/>
              <a:chExt cx="2376360" cy="3960360"/>
            </a:xfrm>
          </p:grpSpPr>
          <p:sp>
            <p:nvSpPr>
              <p:cNvPr id="179" name=""/>
              <p:cNvSpPr/>
              <p:nvPr/>
            </p:nvSpPr>
            <p:spPr>
              <a:xfrm>
                <a:off x="979200" y="99216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52280" y="100800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0640" y="423216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951200" y="151272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94040" y="1368360"/>
              <a:ext cx="35892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-387360" y="1008000"/>
            <a:ext cx="2631600" cy="3960360"/>
            <a:chOff x="-387360" y="1008000"/>
            <a:chExt cx="2631600" cy="3960360"/>
          </a:xfrm>
        </p:grpSpPr>
        <p:sp>
          <p:nvSpPr>
            <p:cNvPr id="185" name=""/>
            <p:cNvSpPr/>
            <p:nvPr/>
          </p:nvSpPr>
          <p:spPr>
            <a:xfrm>
              <a:off x="1052280" y="1239480"/>
              <a:ext cx="86328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99800" y="128880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99800" y="213480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99800" y="298116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99800" y="382716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3560" y="1223640"/>
              <a:ext cx="64764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15080" y="159984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99680" y="16333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-387360" y="1008000"/>
              <a:ext cx="2376360" cy="3960360"/>
              <a:chOff x="-387360" y="1008000"/>
              <a:chExt cx="2376360" cy="3960360"/>
            </a:xfrm>
          </p:grpSpPr>
          <p:sp>
            <p:nvSpPr>
              <p:cNvPr id="194" name=""/>
              <p:cNvSpPr/>
              <p:nvPr/>
            </p:nvSpPr>
            <p:spPr>
              <a:xfrm>
                <a:off x="-28800" y="100800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280" y="102384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-387360" y="424800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942840" y="1528560"/>
              <a:ext cx="35820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85680" y="138420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90120" y="128520"/>
            <a:ext cx="5205240" cy="4895640"/>
            <a:chOff x="690120" y="128520"/>
            <a:chExt cx="5205240" cy="4895640"/>
          </a:xfrm>
        </p:grpSpPr>
        <p:grpSp>
          <p:nvGrpSpPr>
            <p:cNvPr id="200" name=""/>
            <p:cNvGrpSpPr/>
            <p:nvPr/>
          </p:nvGrpSpPr>
          <p:grpSpPr>
            <a:xfrm>
              <a:off x="690120" y="703440"/>
              <a:ext cx="5205240" cy="4320720"/>
              <a:chOff x="690120" y="703440"/>
              <a:chExt cx="5205240" cy="4320720"/>
            </a:xfrm>
          </p:grpSpPr>
          <p:sp>
            <p:nvSpPr>
              <p:cNvPr id="201" name=""/>
              <p:cNvSpPr/>
              <p:nvPr/>
            </p:nvSpPr>
            <p:spPr>
              <a:xfrm>
                <a:off x="5060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060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060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060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9680" y="134460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69680" y="219060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9680" y="3036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9680" y="3882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09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09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09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909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0120" y="70344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8876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3364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8320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1630080" y="1344600"/>
                <a:ext cx="1223280" cy="845280"/>
                <a:chOff x="1630080" y="1344600"/>
                <a:chExt cx="1223280" cy="8452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630080" y="1344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630080" y="15138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630080" y="16826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630080" y="185184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630080" y="20210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628640" y="2190600"/>
                <a:ext cx="1223280" cy="846000"/>
                <a:chOff x="1628640" y="2190600"/>
                <a:chExt cx="1223280" cy="8460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628640" y="2190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628640" y="2359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628640" y="25290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8640" y="2698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28640" y="2867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1627200" y="3036960"/>
                <a:ext cx="1223280" cy="845280"/>
                <a:chOff x="1627200" y="3036960"/>
                <a:chExt cx="1223280" cy="8452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1627200" y="3036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627200" y="3206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627200" y="3375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27200" y="3544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627200" y="3713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627200" y="3882960"/>
                <a:ext cx="1223280" cy="845280"/>
                <a:chOff x="1627200" y="3882960"/>
                <a:chExt cx="1223280" cy="8452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627200" y="3882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27200" y="4052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627200" y="4221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627200" y="4390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627200" y="4559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1758960" y="120816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86240" y="11844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85240" y="2033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85240" y="2878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85240" y="3725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91000" y="456228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668600" y="1546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668600" y="1888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671840" y="22194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663920" y="2565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648080" y="3238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640160" y="35751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632240" y="39164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624320" y="42530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3765600" y="1342800"/>
                <a:ext cx="1222920" cy="846000"/>
                <a:chOff x="3765600" y="1342800"/>
                <a:chExt cx="1222920" cy="8460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765600" y="13428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765600" y="15120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765600" y="16812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765600" y="18504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765600" y="20196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3763800" y="2189160"/>
                <a:ext cx="1223280" cy="845280"/>
                <a:chOff x="3763800" y="2189160"/>
                <a:chExt cx="1223280" cy="845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763800" y="2189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763800" y="2358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763800" y="25272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763800" y="2696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763800" y="28656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762360" y="3035160"/>
                <a:ext cx="1223280" cy="846000"/>
                <a:chOff x="3762360" y="3035160"/>
                <a:chExt cx="1223280" cy="8460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762360" y="3035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762360" y="32043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762360" y="3373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762360" y="3542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762360" y="3711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762360" y="3881520"/>
                <a:ext cx="1223280" cy="845280"/>
                <a:chOff x="3762360" y="3881520"/>
                <a:chExt cx="1223280" cy="8452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762360" y="3881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762360" y="40507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762360" y="42195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762360" y="4388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762360" y="45579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3894120" y="1206360"/>
                <a:ext cx="934560" cy="367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21400" y="11826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20400" y="20318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20400" y="2876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20400" y="372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26520" y="45608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03760" y="1544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03760" y="18874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07000" y="22176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99080" y="2563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3240" y="3236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75320" y="3573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67400" y="3914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59480" y="42512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1640" y="128520"/>
              <a:ext cx="33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x46 Piper Seneca (twin-eng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42760" y="122724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90120" y="5059440"/>
            <a:ext cx="5466600" cy="4846320"/>
            <a:chOff x="690120" y="5059440"/>
            <a:chExt cx="5466600" cy="4846320"/>
          </a:xfrm>
        </p:grpSpPr>
        <p:grpSp>
          <p:nvGrpSpPr>
            <p:cNvPr id="296" name=""/>
            <p:cNvGrpSpPr/>
            <p:nvPr/>
          </p:nvGrpSpPr>
          <p:grpSpPr>
            <a:xfrm>
              <a:off x="690120" y="5585040"/>
              <a:ext cx="5205240" cy="4320720"/>
              <a:chOff x="690120" y="5585040"/>
              <a:chExt cx="5205240" cy="4320720"/>
            </a:xfrm>
          </p:grpSpPr>
          <p:sp>
            <p:nvSpPr>
              <p:cNvPr id="297" name=""/>
              <p:cNvSpPr/>
              <p:nvPr/>
            </p:nvSpPr>
            <p:spPr>
              <a:xfrm>
                <a:off x="5060880" y="62262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60880" y="70722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60880" y="79185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60880" y="87645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9680" y="622620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69680" y="707220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69680" y="79185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9680" y="87645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09880" y="62262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09880" y="70722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09880" y="79185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09880" y="87645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90120" y="558504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8760" y="61610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33640" y="61610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83200" y="61610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630080" y="6226200"/>
                <a:ext cx="1223280" cy="845280"/>
                <a:chOff x="1630080" y="6226200"/>
                <a:chExt cx="1223280" cy="84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630080" y="6226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30080" y="6395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630080" y="65642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630080" y="673344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30080" y="69026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1628640" y="7072200"/>
                <a:ext cx="1223280" cy="846000"/>
                <a:chOff x="1628640" y="7072200"/>
                <a:chExt cx="1223280" cy="8460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628640" y="7072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28640" y="7241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28640" y="7410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28640" y="7579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628640" y="77490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1627200" y="7918560"/>
                <a:ext cx="1223280" cy="845280"/>
                <a:chOff x="1627200" y="7918560"/>
                <a:chExt cx="1223280" cy="8452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627200" y="7918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627200" y="8087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627200" y="82566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627200" y="8425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627200" y="8595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627200" y="8764560"/>
                <a:ext cx="1223280" cy="845280"/>
                <a:chOff x="1627200" y="8764560"/>
                <a:chExt cx="1223280" cy="8452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627200" y="8764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627200" y="8933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627200" y="91026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627200" y="9271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627200" y="9441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1758960" y="608976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686240" y="60660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85240" y="69152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85240" y="77598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85240" y="86072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791000" y="944388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68600" y="64278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68600" y="67705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71840" y="71010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63920" y="74469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648080" y="81201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40160" y="8456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32240" y="87980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24320" y="9134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3765600" y="6224400"/>
                <a:ext cx="1222920" cy="846000"/>
                <a:chOff x="3765600" y="6224400"/>
                <a:chExt cx="1222920" cy="846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765600" y="62244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765600" y="63936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765600" y="65628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765600" y="67320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765600" y="69012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763800" y="7070760"/>
                <a:ext cx="1223280" cy="845280"/>
                <a:chOff x="3763800" y="7070760"/>
                <a:chExt cx="1223280" cy="84528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763800" y="7070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763800" y="72399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763800" y="74088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763800" y="75780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763800" y="77472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3762360" y="7916760"/>
                <a:ext cx="1223280" cy="846000"/>
                <a:chOff x="3762360" y="7916760"/>
                <a:chExt cx="1223280" cy="8460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3762360" y="7916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762360" y="8085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762360" y="8255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762360" y="84243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762360" y="8593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3762360" y="8763120"/>
                <a:ext cx="1223280" cy="845280"/>
                <a:chOff x="3762360" y="8763120"/>
                <a:chExt cx="1223280" cy="8452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762360" y="8763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762360" y="89323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762360" y="9101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762360" y="92703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762360" y="94395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3894120" y="6087960"/>
                <a:ext cx="934560" cy="367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21400" y="60642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20400" y="69134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920400" y="77580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20400" y="86058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26520" y="94424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03760" y="6426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03760" y="67690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07000" y="7099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799080" y="74455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783240" y="8118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775320" y="84549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767400" y="87962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759480" y="91328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2406960" y="5059440"/>
              <a:ext cx="374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 Narrow"/>
                </a:rPr>
                <a:t>Ave. Cessna C182, DHC-2 Beaver and Piper Sene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42760" y="610884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316840" y="6534000"/>
            <a:ext cx="46872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10000" y="2048040"/>
            <a:ext cx="47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40</a:t>
            </a:r>
            <a:r>
              <a:rPr b="0" lang="es-ES_tradnl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33840" y="1077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690120" y="128520"/>
            <a:ext cx="5205240" cy="4895640"/>
            <a:chOff x="690120" y="128520"/>
            <a:chExt cx="5205240" cy="4895640"/>
          </a:xfrm>
        </p:grpSpPr>
        <p:grpSp>
          <p:nvGrpSpPr>
            <p:cNvPr id="395" name=""/>
            <p:cNvGrpSpPr/>
            <p:nvPr/>
          </p:nvGrpSpPr>
          <p:grpSpPr>
            <a:xfrm>
              <a:off x="690120" y="703440"/>
              <a:ext cx="5205240" cy="4320720"/>
              <a:chOff x="690120" y="703440"/>
              <a:chExt cx="5205240" cy="4320720"/>
            </a:xfrm>
          </p:grpSpPr>
          <p:sp>
            <p:nvSpPr>
              <p:cNvPr id="396" name=""/>
              <p:cNvSpPr/>
              <p:nvPr/>
            </p:nvSpPr>
            <p:spPr>
              <a:xfrm>
                <a:off x="5060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60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60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60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9680" y="134460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9680" y="219060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9680" y="3036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9680" y="3882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09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09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09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09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0120" y="70344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8876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3364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8320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1630080" y="1344600"/>
                <a:ext cx="1223280" cy="845280"/>
                <a:chOff x="1630080" y="1344600"/>
                <a:chExt cx="1223280" cy="8452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630080" y="1344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630080" y="15138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630080" y="16826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30080" y="185184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630080" y="20210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628640" y="2190600"/>
                <a:ext cx="1223280" cy="846000"/>
                <a:chOff x="1628640" y="2190600"/>
                <a:chExt cx="1223280" cy="8460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628640" y="2190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28640" y="2359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628640" y="25290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628640" y="2698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628640" y="2867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627200" y="3036960"/>
                <a:ext cx="1223280" cy="845280"/>
                <a:chOff x="1627200" y="3036960"/>
                <a:chExt cx="1223280" cy="845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627200" y="3036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627200" y="3206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627200" y="3375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627200" y="3544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627200" y="3713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1627200" y="3882960"/>
                <a:ext cx="1223280" cy="845280"/>
                <a:chOff x="1627200" y="3882960"/>
                <a:chExt cx="1223280" cy="845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627200" y="3882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627200" y="4052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627200" y="4221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627200" y="4390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627200" y="4559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1758960" y="120816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686240" y="11844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85240" y="2033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785240" y="2878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85240" y="3725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91000" y="456228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68600" y="1546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668600" y="1888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71840" y="22194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63920" y="2565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648080" y="3238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640160" y="35751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32240" y="39164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24320" y="42530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3765600" y="1342800"/>
                <a:ext cx="1222920" cy="846000"/>
                <a:chOff x="3765600" y="1342800"/>
                <a:chExt cx="1222920" cy="8460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765600" y="13428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765600" y="15120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765600" y="16812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765600" y="18504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765600" y="20196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3763800" y="2189160"/>
                <a:ext cx="1223280" cy="845280"/>
                <a:chOff x="3763800" y="2189160"/>
                <a:chExt cx="1223280" cy="845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763800" y="2189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763800" y="2358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763800" y="25272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763800" y="2696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763800" y="28656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762360" y="3035160"/>
                <a:ext cx="1223280" cy="846000"/>
                <a:chOff x="3762360" y="3035160"/>
                <a:chExt cx="1223280" cy="8460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762360" y="3035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762360" y="32043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762360" y="3373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762360" y="3542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762360" y="3711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762360" y="3881520"/>
                <a:ext cx="1223280" cy="845280"/>
                <a:chOff x="3762360" y="3881520"/>
                <a:chExt cx="1223280" cy="8452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3762360" y="3881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762360" y="40507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762360" y="42195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762360" y="4388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762360" y="45579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" name=""/>
              <p:cNvSpPr/>
              <p:nvPr/>
            </p:nvSpPr>
            <p:spPr>
              <a:xfrm>
                <a:off x="3894120" y="1206360"/>
                <a:ext cx="934560" cy="367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21400" y="11826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20400" y="20318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20400" y="2876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20400" y="372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26520" y="45608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803760" y="1544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03760" y="18874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07000" y="22176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99080" y="2563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83240" y="3236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775320" y="3573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767400" y="3914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759480" y="42512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2411640" y="128520"/>
              <a:ext cx="33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x46 Piper Seneca (twin-eng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42760" y="122724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90120" y="5097600"/>
            <a:ext cx="5285160" cy="4894920"/>
            <a:chOff x="690120" y="5097600"/>
            <a:chExt cx="5285160" cy="4894920"/>
          </a:xfrm>
        </p:grpSpPr>
        <p:grpSp>
          <p:nvGrpSpPr>
            <p:cNvPr id="491" name=""/>
            <p:cNvGrpSpPr/>
            <p:nvPr/>
          </p:nvGrpSpPr>
          <p:grpSpPr>
            <a:xfrm>
              <a:off x="690120" y="5672160"/>
              <a:ext cx="5205240" cy="4320360"/>
              <a:chOff x="690120" y="5672160"/>
              <a:chExt cx="5205240" cy="4320360"/>
            </a:xfrm>
          </p:grpSpPr>
          <p:sp>
            <p:nvSpPr>
              <p:cNvPr id="492" name=""/>
              <p:cNvSpPr/>
              <p:nvPr/>
            </p:nvSpPr>
            <p:spPr>
              <a:xfrm>
                <a:off x="5060880" y="6313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60880" y="715932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60880" y="8005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060880" y="8851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69680" y="6313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69680" y="715932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9680" y="8005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9680" y="8851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909880" y="6313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09880" y="715932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09880" y="8005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09880" y="8851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0120" y="567216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8876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93364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08320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630080" y="6313320"/>
                <a:ext cx="1223280" cy="845280"/>
                <a:chOff x="1630080" y="6313320"/>
                <a:chExt cx="1223280" cy="8452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1630080" y="6313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630080" y="6482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630080" y="6651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630080" y="6820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630080" y="6989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628640" y="7159320"/>
                <a:ext cx="1223280" cy="846000"/>
                <a:chOff x="1628640" y="7159320"/>
                <a:chExt cx="1223280" cy="8460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1628640" y="7159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628640" y="7328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628640" y="74977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628640" y="76669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628640" y="7836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1627200" y="8005320"/>
                <a:ext cx="1223280" cy="845280"/>
                <a:chOff x="1627200" y="8005320"/>
                <a:chExt cx="1223280" cy="8452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1627200" y="8005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627200" y="8174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627200" y="8343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627200" y="8512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627200" y="8681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1627200" y="8851320"/>
                <a:ext cx="1223280" cy="845280"/>
                <a:chOff x="1627200" y="8851320"/>
                <a:chExt cx="1223280" cy="8452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627200" y="8851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627200" y="9020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627200" y="9189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627200" y="9358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627200" y="9527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1758960" y="6176880"/>
                <a:ext cx="934560" cy="367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686240" y="61531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85240" y="7002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785240" y="7846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85240" y="86940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91000" y="95306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668600" y="6514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68600" y="6857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671840" y="71881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663920" y="75340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648080" y="8206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640160" y="85435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32240" y="88848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24320" y="92214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3765600" y="6311520"/>
                <a:ext cx="1222920" cy="846000"/>
                <a:chOff x="3765600" y="6311520"/>
                <a:chExt cx="1222920" cy="8460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3765600" y="63115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65600" y="64807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765600" y="66499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765600" y="68191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765600" y="69883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3763800" y="7157880"/>
                <a:ext cx="1223280" cy="845280"/>
                <a:chOff x="3763800" y="7157880"/>
                <a:chExt cx="1223280" cy="8452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3763800" y="715788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763800" y="732708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763800" y="74959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763800" y="7665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763800" y="78343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3762360" y="8003520"/>
                <a:ext cx="1223280" cy="846000"/>
                <a:chOff x="3762360" y="8003520"/>
                <a:chExt cx="1223280" cy="84600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762360" y="8003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762360" y="81727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762360" y="83419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762360" y="8511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762360" y="8680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3762360" y="8849880"/>
                <a:ext cx="1223280" cy="845280"/>
                <a:chOff x="3762360" y="8849880"/>
                <a:chExt cx="1223280" cy="8452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3762360" y="884988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762360" y="901908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762360" y="91879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762360" y="9357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762360" y="95263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3894120" y="617508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1400" y="6151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20400" y="7000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20400" y="78447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920400" y="8692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26520" y="952920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803760" y="65134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803760" y="6856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07000" y="71863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799080" y="7532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783240" y="82051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75320" y="85417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67400" y="88830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59480" y="92196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2412720" y="5097600"/>
              <a:ext cx="356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1 Cessna C182 (single eng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42760" y="619596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316840" y="6691320"/>
            <a:ext cx="468720" cy="20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10000" y="2048040"/>
            <a:ext cx="47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40</a:t>
            </a:r>
            <a:r>
              <a:rPr b="0" lang="es-ES_tradnl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33840" y="1077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690120" y="128520"/>
            <a:ext cx="5205240" cy="4895640"/>
            <a:chOff x="690120" y="128520"/>
            <a:chExt cx="5205240" cy="4895640"/>
          </a:xfrm>
        </p:grpSpPr>
        <p:grpSp>
          <p:nvGrpSpPr>
            <p:cNvPr id="590" name=""/>
            <p:cNvGrpSpPr/>
            <p:nvPr/>
          </p:nvGrpSpPr>
          <p:grpSpPr>
            <a:xfrm>
              <a:off x="690120" y="703440"/>
              <a:ext cx="5205240" cy="4320720"/>
              <a:chOff x="690120" y="703440"/>
              <a:chExt cx="5205240" cy="4320720"/>
            </a:xfrm>
          </p:grpSpPr>
          <p:sp>
            <p:nvSpPr>
              <p:cNvPr id="591" name=""/>
              <p:cNvSpPr/>
              <p:nvPr/>
            </p:nvSpPr>
            <p:spPr>
              <a:xfrm>
                <a:off x="5060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060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60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060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69680" y="134460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69680" y="219060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9680" y="3036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9680" y="3882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09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909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909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909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90120" y="70344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876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93364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08320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1630080" y="1344600"/>
                <a:ext cx="1223280" cy="845280"/>
                <a:chOff x="1630080" y="1344600"/>
                <a:chExt cx="1223280" cy="8452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1630080" y="1344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630080" y="15138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630080" y="16826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630080" y="185184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630080" y="20210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1628640" y="2190600"/>
                <a:ext cx="1223280" cy="846000"/>
                <a:chOff x="1628640" y="2190600"/>
                <a:chExt cx="1223280" cy="84600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1628640" y="2190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628640" y="2359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628640" y="25290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628640" y="2698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628640" y="2867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1627200" y="3036960"/>
                <a:ext cx="1223280" cy="845280"/>
                <a:chOff x="1627200" y="3036960"/>
                <a:chExt cx="1223280" cy="8452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1627200" y="3036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627200" y="3206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627200" y="3375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627200" y="3544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627200" y="3713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1627200" y="3882960"/>
                <a:ext cx="1223280" cy="845280"/>
                <a:chOff x="1627200" y="3882960"/>
                <a:chExt cx="1223280" cy="845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627200" y="3882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627200" y="4052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627200" y="4221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627200" y="4390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27200" y="4559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1758960" y="120816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686240" y="11844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785240" y="2033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785240" y="2878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785240" y="3725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791000" y="456228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668600" y="1546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668600" y="1888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671840" y="22194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663920" y="2565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648080" y="3238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640160" y="35751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32240" y="39164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24320" y="42530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3765600" y="1342800"/>
                <a:ext cx="1222920" cy="846000"/>
                <a:chOff x="3765600" y="1342800"/>
                <a:chExt cx="1222920" cy="8460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3765600" y="13428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765600" y="15120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765600" y="16812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765600" y="18504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765600" y="20196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763800" y="2189160"/>
                <a:ext cx="1223280" cy="845280"/>
                <a:chOff x="3763800" y="2189160"/>
                <a:chExt cx="1223280" cy="8452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763800" y="2189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763800" y="2358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763800" y="25272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763800" y="2696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763800" y="28656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3762360" y="3035160"/>
                <a:ext cx="1223280" cy="846000"/>
                <a:chOff x="3762360" y="3035160"/>
                <a:chExt cx="1223280" cy="8460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3762360" y="3035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762360" y="32043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762360" y="3373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762360" y="3542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762360" y="3711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3762360" y="3881520"/>
                <a:ext cx="1223280" cy="845280"/>
                <a:chOff x="3762360" y="3881520"/>
                <a:chExt cx="1223280" cy="8452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3762360" y="3881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762360" y="40507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762360" y="42195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762360" y="4388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762360" y="45579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3894120" y="1206360"/>
                <a:ext cx="934560" cy="367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21400" y="11826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920400" y="20318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920400" y="2876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920400" y="372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926520" y="45608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03760" y="1544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803760" y="18874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7000" y="22176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99080" y="2563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783240" y="3236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75320" y="3573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67400" y="3914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759480" y="42512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2411640" y="128520"/>
              <a:ext cx="33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446 Piper Seneca (twin-eng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2760" y="122724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690120" y="5097600"/>
            <a:ext cx="5205240" cy="4894920"/>
            <a:chOff x="690120" y="5097600"/>
            <a:chExt cx="5205240" cy="4894920"/>
          </a:xfrm>
        </p:grpSpPr>
        <p:grpSp>
          <p:nvGrpSpPr>
            <p:cNvPr id="686" name=""/>
            <p:cNvGrpSpPr/>
            <p:nvPr/>
          </p:nvGrpSpPr>
          <p:grpSpPr>
            <a:xfrm>
              <a:off x="690120" y="5672160"/>
              <a:ext cx="5205240" cy="4320360"/>
              <a:chOff x="690120" y="5672160"/>
              <a:chExt cx="5205240" cy="4320360"/>
            </a:xfrm>
          </p:grpSpPr>
          <p:sp>
            <p:nvSpPr>
              <p:cNvPr id="687" name=""/>
              <p:cNvSpPr/>
              <p:nvPr/>
            </p:nvSpPr>
            <p:spPr>
              <a:xfrm>
                <a:off x="5060880" y="6313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060880" y="715932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060880" y="8005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060880" y="8851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9680" y="6313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69680" y="715932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69680" y="8005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9680" y="8851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909880" y="6313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909880" y="715932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09880" y="8005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909880" y="8851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0120" y="567216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876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93364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08320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3" name=""/>
              <p:cNvGrpSpPr/>
              <p:nvPr/>
            </p:nvGrpSpPr>
            <p:grpSpPr>
              <a:xfrm>
                <a:off x="1630080" y="6313320"/>
                <a:ext cx="1223280" cy="845280"/>
                <a:chOff x="1630080" y="6313320"/>
                <a:chExt cx="1223280" cy="8452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1630080" y="6313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630080" y="6482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630080" y="6651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630080" y="6820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630080" y="6989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1628640" y="7159320"/>
                <a:ext cx="1223280" cy="846000"/>
                <a:chOff x="1628640" y="7159320"/>
                <a:chExt cx="1223280" cy="8460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628640" y="7159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628640" y="7328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628640" y="74977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628640" y="76669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628640" y="7836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627200" y="8005320"/>
                <a:ext cx="1223280" cy="845280"/>
                <a:chOff x="1627200" y="8005320"/>
                <a:chExt cx="1223280" cy="8452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627200" y="8005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627200" y="8174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627200" y="8343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627200" y="8512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627200" y="8681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1627200" y="8851320"/>
                <a:ext cx="1223280" cy="845280"/>
                <a:chOff x="1627200" y="8851320"/>
                <a:chExt cx="1223280" cy="84528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1627200" y="8851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627200" y="9020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627200" y="9189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627200" y="9358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627200" y="9527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7" name=""/>
              <p:cNvSpPr/>
              <p:nvPr/>
            </p:nvSpPr>
            <p:spPr>
              <a:xfrm>
                <a:off x="1758960" y="6176880"/>
                <a:ext cx="934560" cy="367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686240" y="61531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785240" y="7002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785240" y="7846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85240" y="86940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791000" y="95306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68600" y="6514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68600" y="6857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71840" y="71881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63920" y="75340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48080" y="8206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40160" y="85435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632240" y="88848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624320" y="92214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3765600" y="6311520"/>
                <a:ext cx="1222920" cy="846000"/>
                <a:chOff x="3765600" y="6311520"/>
                <a:chExt cx="1222920" cy="8460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765600" y="63115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765600" y="64807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765600" y="66499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765600" y="68191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765600" y="69883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763800" y="7157880"/>
                <a:ext cx="1223280" cy="845280"/>
                <a:chOff x="3763800" y="7157880"/>
                <a:chExt cx="1223280" cy="84528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763800" y="715788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763800" y="732708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763800" y="74959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763800" y="7665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763800" y="78343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3762360" y="8003520"/>
                <a:ext cx="1223280" cy="846000"/>
                <a:chOff x="3762360" y="8003520"/>
                <a:chExt cx="1223280" cy="8460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3762360" y="8003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762360" y="81727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762360" y="83419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762360" y="8511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762360" y="8680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3762360" y="8849880"/>
                <a:ext cx="1223280" cy="845280"/>
                <a:chOff x="3762360" y="8849880"/>
                <a:chExt cx="1223280" cy="84528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3762360" y="884988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762360" y="901908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762360" y="91879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762360" y="9357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762360" y="95263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5" name=""/>
              <p:cNvSpPr/>
              <p:nvPr/>
            </p:nvSpPr>
            <p:spPr>
              <a:xfrm>
                <a:off x="3894120" y="617508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821400" y="6151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920400" y="7000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920400" y="78447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920400" y="8692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926520" y="952920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803760" y="65134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803760" y="6856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807000" y="71863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99080" y="7532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783240" y="82051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775320" y="85417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767400" y="88830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759480" y="92196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2411640" y="5097600"/>
              <a:ext cx="290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445 Beaver (single eng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42760" y="619596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5316840" y="6543720"/>
            <a:ext cx="46872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3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7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10000" y="2048040"/>
            <a:ext cx="47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40</a:t>
            </a:r>
            <a:r>
              <a:rPr b="0" lang="es-ES_tradnl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433840" y="1077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4:27:41Z</dcterms:created>
  <dc:creator>Clau</dc:creator>
  <dc:description/>
  <dc:language>en-US</dc:language>
  <cp:lastModifiedBy>Clau</cp:lastModifiedBy>
  <dcterms:modified xsi:type="dcterms:W3CDTF">2013-07-26T16:23:32Z</dcterms:modified>
  <cp:revision>62</cp:revision>
  <dc:subject/>
  <dc:title>Slide 1</dc:title>
</cp:coreProperties>
</file>